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type.wav" ContentType="audio/x-wav"/>
  <Override PartName="/ppt/media/arrow.wav" ContentType="audio/x-wav"/>
  <Override PartName="/ppt/media/cashreg.wav" ContentType="audio/x-wav"/>
  <Override PartName="/ppt/media/coin.wav" ContentType="audio/x-wav"/>
  <Override PartName="/ppt/media/wind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2DB3-815B-4437-ABC2-B43E1C148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5D7A-0BD1-4517-9D16-13DB695D1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883C-21CA-4E96-97BD-12D8B8119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59DB-45B2-4C24-BE4B-5CE4601E1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01EFA-ED8A-4C06-8B1D-A4C947D37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96F6A-2459-4CE0-89EF-DF015B74C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68521-7AD7-4479-8342-9A123CCA9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D1DC5-DEF4-4F0D-BA25-B232E43E5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C0DC9-929E-4923-B617-40EB7E035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8CA6B-6E78-4FFF-BDCD-3FAA8092B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A7AF7-3437-4077-8FD8-5736D9E7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C9CC-0771-4131-B1AD-C1EEC2436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114F7-A26E-46FA-B2C9-32876324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A9586-A7F2-4C7A-8E85-70AAE09C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8E1DC-05FD-421C-BB1C-A1A67825C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EB99F-56E6-4252-8139-CD1F87C1E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5007F-0BE2-4FA4-A841-C53F9B025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0265-20A0-4C5A-B3E9-4678EFEF0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D3A4-AFEC-4600-B81D-9FD8A83D3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8C86-BAEB-4568-A6C0-C36E66462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B59E-0DE0-4CE8-A8B9-0C214772E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61E0-7139-403A-ADA3-81793436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B094-EB44-43D8-86ED-B1ED0EA4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1D66-A415-48A5-9429-21CAF0F7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 algn="r" rtl="1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 algn="r" rtl="1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 algn="r" rtl="1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 algn="r" rtl="1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 algn="r" rtl="1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65971-78D1-4638-906B-62F437B279FD}" type="datetime3">
              <a:rPr b="0" lang="ar-SA" sz="1200" spc="-1" strike="noStrike">
                <a:solidFill>
                  <a:srgbClr val="b2b2b2"/>
                </a:solidFill>
                <a:latin typeface="Tahoma"/>
              </a:rPr>
              <a:t>الأربعاء 29 يوليو 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486040" y="6504840"/>
            <a:ext cx="2895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323880" y="6205680"/>
            <a:ext cx="677880" cy="57600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8D25C-C977-4423-8A31-BF36E734FC32}" type="slidenum">
              <a:rPr b="1" lang="ar-SA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99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grpSp>
          <p:nvGrpSpPr>
            <p:cNvPr id="11" name=""/>
            <p:cNvGrpSpPr/>
            <p:nvPr/>
          </p:nvGrpSpPr>
          <p:grpSpPr>
            <a:xfrm>
              <a:off x="0" y="2286000"/>
              <a:ext cx="1066680" cy="1066680"/>
              <a:chOff x="0" y="2286000"/>
              <a:chExt cx="1066680" cy="1066680"/>
            </a:xfrm>
          </p:grpSpPr>
          <p:sp>
            <p:nvSpPr>
              <p:cNvPr id="12" name=""/>
              <p:cNvSpPr/>
              <p:nvPr/>
            </p:nvSpPr>
            <p:spPr>
              <a:xfrm>
                <a:off x="0" y="2286000"/>
                <a:ext cx="533520" cy="53352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533520" y="2819520"/>
                <a:ext cx="533160" cy="53316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" name=""/>
            <p:cNvSpPr/>
            <p:nvPr/>
          </p:nvSpPr>
          <p:spPr>
            <a:xfrm>
              <a:off x="0" y="2286000"/>
              <a:ext cx="53352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33520" y="281952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grpSp>
          <p:nvGrpSpPr>
            <p:cNvPr id="17" name=""/>
            <p:cNvGrpSpPr/>
            <p:nvPr/>
          </p:nvGrpSpPr>
          <p:grpSpPr>
            <a:xfrm>
              <a:off x="762120" y="152280"/>
              <a:ext cx="1981080" cy="1295640"/>
              <a:chOff x="762120" y="152280"/>
              <a:chExt cx="1981080" cy="1295640"/>
            </a:xfrm>
          </p:grpSpPr>
          <p:sp>
            <p:nvSpPr>
              <p:cNvPr id="18" name=""/>
              <p:cNvSpPr/>
              <p:nvPr/>
            </p:nvSpPr>
            <p:spPr>
              <a:xfrm>
                <a:off x="1981080" y="533520"/>
                <a:ext cx="381240" cy="38088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2120" y="1066680"/>
                <a:ext cx="380880" cy="38124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3000" y="685800"/>
                <a:ext cx="380880" cy="38088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2362320" y="152280"/>
                <a:ext cx="380880" cy="38124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" name=""/>
            <p:cNvSpPr/>
            <p:nvPr/>
          </p:nvSpPr>
          <p:spPr>
            <a:xfrm>
              <a:off x="1981080" y="533520"/>
              <a:ext cx="38124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143000" y="685800"/>
              <a:ext cx="38088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66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144792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C0F5C-886B-496E-875A-73EFBD0BBE21}" type="datetime3">
              <a:rPr b="0" lang="ar-SA" sz="1200" spc="-1" strike="noStrike">
                <a:solidFill>
                  <a:srgbClr val="b2b2b2"/>
                </a:solidFill>
                <a:latin typeface="Tahoma"/>
              </a:rPr>
              <a:t>الأربعاء 29 يوليو 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ftr" idx="5"/>
          </p:nvPr>
        </p:nvSpPr>
        <p:spPr>
          <a:xfrm>
            <a:off x="5410080" y="6504840"/>
            <a:ext cx="28958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sldNum" idx="6"/>
          </p:nvPr>
        </p:nvSpPr>
        <p:spPr>
          <a:xfrm>
            <a:off x="3522600" y="6145200"/>
            <a:ext cx="736560" cy="636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950E7-75A3-4FD2-97CD-6A05D3252D37}" type="slidenum">
              <a:rPr b="1" lang="ar-SA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900" spc="-1" strike="noStrike">
                <a:solidFill>
                  <a:srgbClr val="ffff00"/>
                </a:solidFill>
                <a:latin typeface="Tahoma"/>
                <a:cs typeface="DecoType Naskh Variants"/>
              </a:rPr>
              <a:t>أضْرُبُ الخبَرِ</a:t>
            </a:r>
            <a:endParaRPr b="0" lang="en-US" sz="1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00ff00"/>
                </a:solidFill>
                <a:latin typeface="Tahoma"/>
                <a:cs typeface="DecoType Naskh Variants"/>
              </a:rPr>
              <a:t>علمُ المَعَانِى</a:t>
            </a:r>
            <a:endParaRPr b="0" lang="en-US" sz="96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8AB5D-5D55-42FB-98D0-1BFFBFEF8FC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59355361-7CE5-4CEF-983B-75367D367B97}" type="datetime3">
              <a:rPr lang="en-US"/>
              <a:t>July 29, 2026</a:t>
            </a:fld>
          </a:p>
        </p:txBody>
      </p:sp>
    </p:spTree>
  </p:cSld>
  <p:transition>
    <p:wheel spokes="1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4920" y="980640"/>
            <a:ext cx="7086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ffff00"/>
                </a:solidFill>
                <a:uFillTx/>
                <a:latin typeface="Tahoma"/>
                <a:ea typeface="DecoType Naskh Variants"/>
              </a:rPr>
              <a:t>1</a:t>
            </a:r>
            <a:r>
              <a:rPr b="0" lang="ar-SA" sz="6000" spc="-1" strike="noStrike" u="sng">
                <a:solidFill>
                  <a:srgbClr val="ffff00"/>
                </a:solidFill>
                <a:uFillTx/>
                <a:latin typeface="Tahoma"/>
                <a:ea typeface="DecoType Naskh Variants"/>
              </a:rPr>
              <a:t>- الابتدائى :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94920" y="2349000"/>
            <a:ext cx="7086600" cy="38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ذى يكون خالياً من المؤكدات لأنَّ المخاطب خالى الذهن من الحكم الذى تضمَّنه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66"/>
                </a:solidFill>
                <a:latin typeface="Tahoma"/>
              </a:rPr>
              <a:t>أمثلة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* قال تعالى : </a:t>
            </a: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بَلْ فعَلهُ كبيرُهُمْ هذا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* قول المتنبِّى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أنَا الذى نظرَ الأعْمَى إلى أدَب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                      و أسْمَعَتْ كلمَاتِى مَنْ بهِ صَمَم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3FE7-AD3E-4046-9103-52C14E0D3AC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AFCFF2-A3ED-4B8B-BA7F-2D7C92A26A5D}" type="datetime3">
              <a:rPr lang="en-US"/>
              <a:t>July 29, 2026</a:t>
            </a:fld>
          </a:p>
        </p:txBody>
      </p:sp>
    </p:spTree>
  </p:cSld>
  <p:transition>
    <p:pull dir="d"/>
    <p:sndAc>
      <p:stSnd>
        <p:snd r:embed="rId1" name="type.wav"/>
      </p:stSnd>
    </p:sndAc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294920" y="981000"/>
            <a:ext cx="7086600" cy="51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قال أبو تمَّام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يَنالُ الفتىَ مِنْ عَيْشِهِ و هوَ جَاهِل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                  و يُكدِى الفتى فِى دَهْرهِِ و هوَ عَالِم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و لو كانتْ الأرْزَاقُ تجرى عَلى ا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                   حِجَا هَلكْنَ إذاً مِنْ جَهْلِهنَّ البَهَائـِـمُ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10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ff00"/>
                </a:solidFill>
                <a:latin typeface="Tahoma"/>
                <a:cs typeface="DecoType Naskh Extensions"/>
              </a:rPr>
              <a:t>هذه الأخبار لا تشتمل على مؤكدات و يسمَّى هذا الضرب من الأخبار ( </a:t>
            </a:r>
            <a:r>
              <a:rPr b="0" lang="ar-SA" sz="4000" spc="-1" strike="noStrike">
                <a:solidFill>
                  <a:srgbClr val="ffff00"/>
                </a:solidFill>
                <a:latin typeface="Tahoma"/>
                <a:cs typeface="DecoType Naskh Extensions"/>
              </a:rPr>
              <a:t>ابتدائيَّاً</a:t>
            </a:r>
            <a:r>
              <a:rPr b="0" lang="ar-SA" sz="4000" spc="-1" strike="noStrike">
                <a:solidFill>
                  <a:srgbClr val="00ff00"/>
                </a:solidFill>
                <a:latin typeface="Tahoma"/>
                <a:ea typeface="DecoType Naskh Extensions"/>
              </a:rPr>
              <a:t> ) 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2D3A-4FD1-44CC-9C6B-8BBE38126EF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5E04B1-8098-48A1-84EA-0C885CEE2EA7}" type="datetime3">
              <a:rPr lang="en-US"/>
              <a:t>July 29, 2026</a:t>
            </a:fld>
          </a:p>
        </p:txBody>
      </p:sp>
    </p:spTree>
  </p:cSld>
  <p:transition>
    <p:strips dir="rd"/>
    <p:sndAc>
      <p:stSnd>
        <p:snd r:embed="rId1" name="arrow.wav"/>
      </p:stSnd>
    </p:sndAc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94920" y="907920"/>
            <a:ext cx="7086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00ff00"/>
                </a:solidFill>
                <a:uFillTx/>
                <a:latin typeface="Tahoma"/>
                <a:ea typeface="DecoType Naskh Variants"/>
              </a:rPr>
              <a:t>2</a:t>
            </a:r>
            <a:r>
              <a:rPr b="0" lang="ar-SA" sz="6000" spc="-1" strike="noStrike" u="sng">
                <a:solidFill>
                  <a:srgbClr val="00ff00"/>
                </a:solidFill>
                <a:uFillTx/>
                <a:latin typeface="Tahoma"/>
                <a:ea typeface="DecoType Naskh Variants"/>
              </a:rPr>
              <a:t>- الطلبى :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94920" y="2060280"/>
            <a:ext cx="708660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ذى يتردَّد فيه المخاطب و لا يعرف مدى صحته و يؤكد بمؤكد واحد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أمثلة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تعالى :“ </a:t>
            </a: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إذْ قالوا ليُوسُفُ و أخُوهُ أحَبُّ إلى أبينَا مِنَّا ”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إنَّ العُيُونَ التِى فِى طرْفِهَا حَوَر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                             قتلننَا ثمَّ لمْ يُحْيينَ قتلانـَـــــــا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تعالى : ” </a:t>
            </a: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قدْ يَعْلمُ الله المُعَوِّقينَ مِنكمْ و القائِلِينَ لإخوَانِهمْ هَلمَّ إليْنَا و لا يَأتونَ البَأسَ إلا قليلا ”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5AEF-C40D-4135-8602-7C9EC603A98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A8D97F-25B8-4769-85D6-322E8F85E275}" type="datetime3">
              <a:rPr lang="en-US"/>
              <a:t>July 29, 2026</a:t>
            </a:fld>
          </a:p>
        </p:txBody>
      </p:sp>
    </p:spTree>
  </p:cSld>
  <p:transition>
    <p:strips dir="rd"/>
    <p:sndAc>
      <p:stSnd>
        <p:snd r:embed="rId1" name="cashreg.wav"/>
      </p:stSnd>
    </p:sndAc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58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294920" y="981000"/>
            <a:ext cx="7086600" cy="51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السرى الرفاء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إنَّ البنَاءَ إذا مَا انْهَدَّ جَانِبُهُ    لمْ يَأمَنِ النَّاسُ أنْ يَنْهَدَّ بَاقِي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أبو العتاهية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إنِّى رأيْتُ عَوَاقِبَ الدنيَا        فترَكتُ مَا أهْوَى لِمَا أخشَ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الشريف الرَّضى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قدْ يَبْلغُ الرَّجُلُ الجَبَانُ بمَالِهِ   مَا ليْسَ يَبْلغهُ الشجَاعُ المُعْدم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9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ahoma"/>
                <a:cs typeface="DecoType Naskh Extensions"/>
              </a:rPr>
              <a:t>يلاحظ فى هذه الأمثلة أنَّ المخاطب له بالحكم إلمام قليل يمتزج بالشكِّ و لهذا أكد الخبر بمؤكد واحد و يسمَّى هذا الضرب من الأخبار ( </a:t>
            </a:r>
            <a:r>
              <a:rPr b="0" lang="ar-SA" sz="3600" spc="-1" strike="noStrike">
                <a:solidFill>
                  <a:srgbClr val="00ff00"/>
                </a:solidFill>
                <a:latin typeface="Tahoma"/>
                <a:cs typeface="DecoType Naskh Extensions"/>
              </a:rPr>
              <a:t>طلبيَّاً</a:t>
            </a:r>
            <a:r>
              <a:rPr b="0" lang="ar-SA" sz="3600" spc="-1" strike="noStrike">
                <a:solidFill>
                  <a:srgbClr val="ffff00"/>
                </a:solidFill>
                <a:latin typeface="Tahoma"/>
                <a:ea typeface="DecoType Naskh Extensions"/>
              </a:rPr>
              <a:t> ) 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7B64-1E45-4C4D-A749-5C0402F7C32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699EA8-0FCF-4674-8A7E-2C0FE9B2238A}" type="datetime3">
              <a:rPr lang="en-US"/>
              <a:t>July 29, 2026</a:t>
            </a:fld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907920"/>
            <a:ext cx="7086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 u="sng">
                <a:solidFill>
                  <a:srgbClr val="ff0066"/>
                </a:solidFill>
                <a:uFillTx/>
                <a:latin typeface="Tahoma"/>
                <a:ea typeface="DecoType Naskh Extensions"/>
              </a:rPr>
              <a:t>3</a:t>
            </a:r>
            <a:r>
              <a:rPr b="0" lang="ar-SA" sz="4800" spc="-1" strike="noStrike" u="sng">
                <a:solidFill>
                  <a:srgbClr val="ff0066"/>
                </a:solidFill>
                <a:uFillTx/>
                <a:latin typeface="Tahoma"/>
                <a:ea typeface="DecoType Naskh Extensions"/>
              </a:rPr>
              <a:t>- الإنكارى 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4920" y="1989000"/>
            <a:ext cx="70866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و هو الذى ينكره المخاطب إنكاراً يحتاج إلى أن يؤكد بأكثر من مؤكد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أمثلة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تعالى : ” </a:t>
            </a: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إنَّا إليْكمْ لمُرْسَلونَ ”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تعالى : ” </a:t>
            </a: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إنَّكمْ لذائِقو العَذابِ الألِيم ”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تعالى : ” </a:t>
            </a: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لتُبْلوُنَّ فى أمْوَالِكمْ و أنفسِكم ”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إنَّا لنصْفحُ عَنْ مَجَاهِل قوْمِنَا      و نقِيمُ سَالِفةَ العَدُوِّ الأصْيَ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192C-A286-41FB-A597-7020993CA2F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CD26C2-25D1-4474-8AAC-6ACC03BF1992}" type="datetime3">
              <a:rPr lang="en-US"/>
              <a:t>July 29, 2026</a:t>
            </a:fld>
          </a:p>
        </p:txBody>
      </p:sp>
    </p:spTree>
  </p:cSld>
  <p:transition>
    <p:comb dir="horz"/>
    <p:sndAc>
      <p:stSnd>
        <p:snd r:embed="rId1" name="wind.wav"/>
      </p:stSnd>
    </p:sndAc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8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294920" y="981000"/>
            <a:ext cx="7086600" cy="51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حسان بن ثابت – رضى الله عنه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و إنِّى لحُلوٌ تعْترينِى مَرَارَةٌ     و إنِّى لترَّاكٌ لِمَا لمْ أعَوَّ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الأرجانى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إنَّا لفِى زمَنِ مَلآنَ مِنْ فِتن     فلا يُعَابُ بهِ مَلانَ مِنْ فَرَ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لبيد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و لقدْ عَلِمْتُ لتأتِيَنَّ مَنِيَّتى      إنَّ المَنايَا لا تطِيشُ سِهَامُهَا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10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00"/>
                </a:solidFill>
                <a:latin typeface="Tahoma"/>
                <a:cs typeface="DecoType Naskh Extensions"/>
              </a:rPr>
              <a:t>فى هذه الطائفة المخاطب منكر للحكم جاحد له و لذلك أكد بأكثر من مؤكد و يسمَّى هذا الضرب</a:t>
            </a:r>
            <a:r>
              <a:rPr b="0" lang="ar-SA" sz="4000" spc="-1" strike="noStrike">
                <a:solidFill>
                  <a:srgbClr val="ff0066"/>
                </a:solidFill>
                <a:latin typeface="Tahoma"/>
                <a:ea typeface="DecoType Naskh Extensions"/>
              </a:rPr>
              <a:t> ( إنكاريَّاً ) 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1CDC-A9DA-433D-9BE8-0B9819CBA18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196313-5387-44A8-8938-FCBB3D8AE2A2}" type="datetime3">
              <a:rPr lang="en-US"/>
              <a:t>July 29, 2026</a:t>
            </a:fld>
          </a:p>
        </p:txBody>
      </p:sp>
    </p:spTree>
  </p:cSld>
  <p:transition>
    <p:push dir="r"/>
    <p:sndAc>
      <p:stSnd>
        <p:snd r:embed="rId1" name="type.wav"/>
      </p:stSnd>
    </p:sndAc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2733840" y="1500120"/>
            <a:ext cx="4430520" cy="466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مع أطيب تمنيَّاتى بالتوفيق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أ / مجدى مختار إبراهيم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مدرس اللغة العربيَّة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E9C2-CE13-4BE8-8E76-9F2EA35549B9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2D8B0D-A352-4284-BA13-CDF4AEFCF85A}" type="datetime3">
              <a:rPr lang="en-US"/>
              <a:t>July 29, 2026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22:31:17Z</dcterms:created>
  <dc:creator>magdy                       </dc:creator>
  <dc:description/>
  <dc:language>en-US</dc:language>
  <cp:lastModifiedBy>magdy</cp:lastModifiedBy>
  <dcterms:modified xsi:type="dcterms:W3CDTF">2008-11-16T18:06:01Z</dcterms:modified>
  <cp:revision>12</cp:revision>
  <dc:subject/>
  <dc:title>التولالالالالالالاصية بخطة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